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BFC-976E-4302-A8BA-9CCACB51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EC0-2D27-45A0-9C50-A3888D74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419B-21D7-4E81-A487-FF467131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2CB-DAAC-4139-892A-755F4469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7C1-8C38-479E-9448-7FDA7006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1A8-C3BB-4324-955A-BF9529EE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188-13A7-45F5-BBF0-8177155A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B6C-9930-472E-B0DC-5D5F3BC9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488-B660-4572-B771-1FE2635E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462-8FBD-4B69-871D-92B5A610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ED4-58C6-4BBC-9081-F4AB956E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AECE-3A55-4AAA-A027-614AB180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f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6FBE-7488-4B45-BC79-C31DAEA0E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f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971800" cy="1065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sp>
        <p:nvSpPr>
          <p:cNvPr id="44" name="Cloud"/>
          <p:cNvSpPr/>
          <p:nvPr/>
        </p:nvSpPr>
        <p:spPr>
          <a:xfrm>
            <a:off x="5257800" y="220968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2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57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60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a duck swi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44956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" dur="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" dur="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" dur="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" dur="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f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sp>
        <p:nvSpPr>
          <p:cNvPr id="81" name="Cloud"/>
          <p:cNvSpPr/>
          <p:nvPr/>
        </p:nvSpPr>
        <p:spPr>
          <a:xfrm>
            <a:off x="5257800" y="220968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83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90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95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98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a duck re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095880" y="4551480"/>
            <a:ext cx="3048120" cy="853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44956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5" dur="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" dur="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4" dur="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5" dur="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f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2971800" cy="1065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sp>
        <p:nvSpPr>
          <p:cNvPr id="120" name="Cloud"/>
          <p:cNvSpPr/>
          <p:nvPr/>
        </p:nvSpPr>
        <p:spPr>
          <a:xfrm>
            <a:off x="5257800" y="220968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122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29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134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137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your mother coo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44197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5" dur="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6" dur="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4" dur="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5" dur="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f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867280" y="4487760"/>
            <a:ext cx="3276720" cy="917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sp>
        <p:nvSpPr>
          <p:cNvPr id="158" name="Cloud"/>
          <p:cNvSpPr/>
          <p:nvPr/>
        </p:nvSpPr>
        <p:spPr>
          <a:xfrm>
            <a:off x="5257800" y="220968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160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67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172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175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dogs brush their tee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4419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h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5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3" dur="5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4" dur="5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5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6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7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8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2" dur="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3" dur="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f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2971800" cy="1065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sp>
        <p:nvSpPr>
          <p:cNvPr id="196" name="Cloud"/>
          <p:cNvSpPr/>
          <p:nvPr/>
        </p:nvSpPr>
        <p:spPr>
          <a:xfrm>
            <a:off x="5257800" y="220968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198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05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210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213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monkeys climb tr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0" y="4419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h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7" dur="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8" dur="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6" dur="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7" dur="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f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971800" cy="10652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sp>
        <p:nvSpPr>
          <p:cNvPr id="234" name="Cloud"/>
          <p:cNvSpPr/>
          <p:nvPr/>
        </p:nvSpPr>
        <p:spPr>
          <a:xfrm>
            <a:off x="5257800" y="220968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236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43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248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251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you and your friend s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400800" y="2133720"/>
            <a:ext cx="4572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315200" y="44197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1" dur="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2" dur="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0" dur="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1" dur="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22:44:12Z</dcterms:created>
  <dc:creator>Gabi Sandru</dc:creator>
  <dc:description/>
  <dc:language>en-US</dc:language>
  <cp:lastModifiedBy>Gabi Sandru</cp:lastModifiedBy>
  <dcterms:modified xsi:type="dcterms:W3CDTF">2010-02-05T23:28:22Z</dcterms:modified>
  <cp:revision>4</cp:revision>
  <dc:subject/>
  <dc:title>Slide 1</dc:title>
</cp:coreProperties>
</file>